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899-0B66-4210-84DC-7B94354D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66F-994C-4511-8E81-310B598D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C76-FC01-4EA8-9422-45D39C66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D19-A32B-4E2F-AC09-58827C90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93A2-244A-4E92-8305-9CABADF8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7B3-B5F9-45FF-93EA-4B394F15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36CF-DF07-4D03-88A8-1D89F16B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D180-552A-4B2C-AA1E-0D52F693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91D-E5F1-49AA-AA3E-3EBD84F3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D215-9C4B-4F2A-A38A-6A3114FE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819-95EE-402A-935A-99EB60E9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466-031F-4B3D-9298-266EB73F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8819-3F46-4F58-BF30-1351043DC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imm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e haben Aschneputtel --Cinderella (am populärsten),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Hansel und Gretel und über 200 weltberühmten Märche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ufgeschrieben oder niedergeschreiben.  Sie haben sie nicht selbst geschreiben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und Die Grimm bruder schreiben über 200 weltberühmten Märch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Ihren namen sind Jacob (1785-1863) und Wilhelm (1786-1859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Sie wohnt in hanau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Erste marchen war schreibt in 1812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hre erste Sammlung von Märchen, "Kinder und Hausmärchen", wurde 1812 veröffentlic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hat in die 1700s geleb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hat keine geld wann sie kinder waren - hat Cinderella gepopularisie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457200" y="22860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at in die 1700s geleb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hat keine geld wann sie kinder waren - hat Cinderella gepopularisi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hre vater gestorbt wenn ihr zehn w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e Geschichte war nicht für Kind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ie haben Philosophie an Universität Göttigen oder Marburg studiert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Wann Der Bruder jung war, euer vater und grossvater hat gestorb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ie sind Märchen nicht Myth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ie waren Lexico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6T17:19:09Z</dcterms:created>
  <dc:creator>Alissa Hart</dc:creator>
  <dc:description/>
  <dc:language>en-US</dc:language>
  <cp:lastModifiedBy>Alissa Hart</cp:lastModifiedBy>
  <dcterms:modified xsi:type="dcterms:W3CDTF">2015-02-06T17:20:06Z</dcterms:modified>
  <cp:revision>1</cp:revision>
  <dc:subject/>
  <dc:title>Grimm Information</dc:title>
</cp:coreProperties>
</file>